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9BD-7340-4FD0-AAFF-BD1A106A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FD2-F77C-4543-A566-606EC56F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EEEC2-30AB-4CDA-898B-F8932DA0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DE4DA-E60C-4034-87D9-8CB4CCB7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3CE26-7161-46DD-9769-2845B8A3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C7CBD-0110-4D87-8665-FE1F6A83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0C8EB-4904-4500-AE09-7674E52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9C88A-1AD2-4720-8B78-AEDFEFFD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266D4-ACA0-46C5-BDC0-C9C0BA90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28CEF-37C2-41D4-B728-3787F954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702A6-6A7F-47DA-A28B-E02B06E4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40380-80D4-41F1-8E6E-499F70FA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FEE-F6BE-46B2-AAF5-F39F5D73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C6A1B-E9F8-4BB7-977A-5970F88D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2C243-50AC-432F-923C-778C6944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B2356-405A-45D5-81FE-C4C92D12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4D53F-EE04-44F7-85FA-C4BD64CC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C1699-CF0F-4021-B6D9-83D1728E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F4E16-0F5E-47E1-A32A-CF375B84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DD264-C13A-40F3-9787-61D7E8C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C7B71-55B0-43F9-A8AB-76F39057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6A82F-7126-4ED1-88FA-56F7E260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73F76-533D-4C29-8063-C70A4698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17E-107B-4CF4-AB1F-F49C3843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9174E-A38C-4328-BB96-5B2C4282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CBC13-11FD-4604-A047-2D0FF204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D3B81-20B6-41B1-BDF2-DFD75A1C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0C4E3-FEBD-4DDA-B996-74FEB23E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888E1-99B3-48E9-8977-A3D22FB4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728EC-4C6E-4D35-8481-10388419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CCD75-06E7-478D-B66E-F0663712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08C26-668B-4AA5-8FDF-A169F635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8A8CD-4C9B-4760-A429-E3392E25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2E075-11A4-4B2F-9861-1B9F45B6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7365-15BA-48B9-9788-51D87F19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CF6FD-45EC-4E2F-A964-A975EA50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CB418-CB5E-4E96-A499-66D2D015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ADEA9-E4C1-49D2-8E7C-94B47C91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922A4-E1B4-4538-B4EB-64EE892C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4FB7B-44D3-42D5-9368-EDF0DB9C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DE069-9959-4F11-A2C3-0810EE5D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98E52-2B31-4890-B8D3-99ED8503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EF173-1561-4CDC-88EE-5891C874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04B8B-1E21-4B01-8D78-248D4E4F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3E1E0-FA4B-4495-82E5-89548B4E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6FFE-F9D3-484C-8837-5255D7EB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BFCA4-7461-4D90-9C1B-88F8961D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07CFC-CFBA-4B9C-9BE0-E4F67965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2C280-D129-4A83-B468-A23AACA9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76DA7-0D8B-4229-87EA-6136424D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CB802-8EA0-43B1-8C72-128BDADC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83ADC-423C-4C6F-8FB2-0347D0B3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48947-9C67-4A0B-93D5-C197CD02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90D21-9B02-4DA6-BC34-53199481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7268A-9563-4566-B6E8-C1F248F9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F5E99-C26C-4375-AC2C-010F3D48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F6CB-ACB2-43EB-99E4-BBF62D27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9B4F7-9F80-4D09-B712-A64E5968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E473B-B34D-4215-804E-1D962F55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6D628-4CBE-47C4-9CB1-B2E9BB21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9935B-A274-4F34-A73E-80EB5417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38BF3-60EC-4E64-B59A-5557F15A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96D55-3568-4F02-B5C9-24DB1162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1E92D-4D20-440B-9BD9-2C0E669A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453D6-50A4-40D7-A5A4-B661B3DF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F4F5E-035E-44BA-96BF-E5643302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DF970-7C02-450C-99DA-857EDAD4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7DAF-870E-4B69-B2AB-8505FEF9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6DAD3-25D0-4B5E-917F-30781E93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60042-6867-4D3B-B2D5-BCE012DA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CFBAD-7E72-41F0-9FA8-3660B7DA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523E8-34BD-4D08-9871-2D337B35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D7E2E-6DDF-4A8A-A427-12956939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6ABA4-0780-4F83-A851-D4209A8E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19F54-96C2-4E38-8ED7-8D441992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0B87A-B1CA-472B-9931-0C2AEFA0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BC0B5-EAFD-44A0-866D-6D9B9572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3653D-FB6D-4776-AFB3-5313DC8B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A483-4087-4D81-A9A6-890158F7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2010E-CAFF-4200-AD8B-D02A1F4F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36413A-F1E9-4741-820C-F66EE9DD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B7B14-2F01-45B3-8BA4-F6388F24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3F0B1-C6D7-45F5-BA8A-D55AD48E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AFD5D-A380-4BD1-BC47-94A206BC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3BA94-8AE2-49B6-A3EE-D7ED9171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8E578-0AA2-4D4A-9044-D272A257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A8740-5FDE-4A6C-85B0-9090554B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E62E8-9658-4B90-BAEF-20D37DE9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BBBF7-D2C1-410E-969F-A0A612F0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2A2D-86E6-43BF-911D-40035864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D9B52-7CB6-49FB-8B6A-F592BDD7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ACE08-9AAE-4443-834F-3181C6CE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D9494E-0157-404A-AFD5-9E22364C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CBDF0-C278-430F-B18A-3D67E714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44AF9-71C2-456E-A47E-5C3D1F21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0C9DA-5176-411C-A73D-1CD36962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2CABC-5C97-4482-B564-090AA482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81193-3AE9-44AF-8FE6-D485AFF4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24A2C-AE00-4322-A474-28BCCB05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F7901-2026-4C2A-99DB-72B6BA27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CE91-53E4-4B72-84AC-013534E5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0876F-ED36-4E3E-99ED-B02529FC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C69B5-AC3F-4E82-9234-4438DCF8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B5172-7409-4011-918B-25355F2C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C3B209-7B12-4FBC-BB74-F901D4D6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2818C-F0B6-4AE8-935D-15289CD0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B9264-0931-46DE-B0B2-4D9CFA0E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983C8-9C98-4ACE-AB16-0813DAED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64DA1-9124-4563-A1F2-6D7D6E3A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1316F-AB6F-4E28-871F-33ECE89A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624DC6-7F9D-4FF6-A190-9D7BD46B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C73-2462-4F2F-A5DC-5106AE57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41FF-B4D7-4C11-AB85-C7A61A05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13847-6CD6-4065-A321-647435D3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7173C4-2F86-47AF-B752-3CC60982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24E0F-93E8-4BD4-8F45-B84632A0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6CEB13-A09F-4F11-822C-C5186962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93E991-C4BF-4690-8CC2-16BE279D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E467C-06C4-4471-9878-C581C188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A4421-4C7E-4826-AC1C-EFD00A7C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46BBC-058F-443D-9975-8DE0F64C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811A9D-62E8-4CE3-BE61-C7C2217B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E92711-B05B-4954-B68C-319E4286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9566-FF39-4C7D-AA8D-9147EF65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61BC29-BDB1-4ADE-B749-1B5439CA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209BEC-B89E-4879-9B86-F1FE5464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227DC5-4AD5-4A57-8B91-63BA88C9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0F0FD1-4574-4485-86BD-94AAAB87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41EDEF-C0AC-4F2D-A1F6-97BF9543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A96BB-A544-4D88-BA0D-CA7C35E5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994CE7-DC10-4414-9DAC-3B253260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84E58-E5A4-4E38-8E1F-21BB505C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C73EAB-0C60-4360-9498-61327CF3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7DC49-58CB-44E7-B839-50027D1C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BF01-48C1-425F-8ABB-B02A46AF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64DCD9-77D3-461A-B5D2-76A08FF8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8A1C8D-F1BB-476F-A44A-E8391C7A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9DA6B-CDA4-4B05-B002-853FF433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38765-783D-4B9D-A3CC-8412BA0D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25666F-4E23-4A5E-AED8-C01EB3B9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E8640-8406-4073-9DA8-36171B97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72F1E9-274D-46D4-8103-BC5536BB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17CEAD-EEBF-4E9B-9360-86AB8637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61F9A5-1DD9-4E5B-B40F-3781705E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3E0EA-C74D-4FCC-9A86-BFBBA11F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5F51-08C7-4ACF-9650-D7D19A87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E07E09-3FD1-4AEE-AD86-812E8570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575729-1771-4452-9282-C123A0BA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0DC517-B0E5-4E2D-B509-D3E50FAE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FFC0B1-4A26-4CF7-A699-7C560527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2B705D-E0B5-4A2F-AD49-3E684882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D12F12-2B1F-4F91-9420-5E57B6CF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BDF52-DDCE-4545-8840-A19D614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DB53ED-E772-468E-B000-78B32D14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8553B2-3499-496D-8880-5A7F1C78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298C4E-B896-44B1-8FBA-02864ABD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2E9C-5343-487D-B668-8B0C57B5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CB279-F842-40D6-90D5-57B45A0B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177437-DD87-46DA-9AB0-96D62910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BCBC1C-038F-4E8E-B34B-909D38F0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3EC5FB-D2F8-42E5-93B7-3B6F38EF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7CA20D-8B07-420F-9210-23D91CCD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D4CDE1-05C0-466D-9C3E-3E358C36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8AB9A4-2CF5-4BEB-8786-7A75F182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F143E-A37C-4FB8-A4A6-0AEE5438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E81597-E058-4E5C-AA02-0CBDF6A9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FC76A-8AB9-49DB-8D0A-CF56FC1F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8951-A6F0-4BBC-9917-51C74C1B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F1C87-19F2-41D8-9B12-6DC56680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C42EC-4A3D-44EA-864B-79B57735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9373D9-DF54-40A2-9B0D-E5DF3040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7234-B338-42C0-8DD5-531DBA12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5BB61-49B8-46AB-ACE1-E1F11E15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4F78-69D7-45D2-8293-449B48C2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1E98-D48B-4EF8-81B8-2B12BE54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B37-6761-49A7-9B73-F4EBDDBB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14CC7-E147-44B3-87C2-1E0A068A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EDC2-78AE-45DD-87F4-56179212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173D-FDDD-46BA-AB4F-1A47C70C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0451-C0FC-45EE-A6CB-70AE929F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3A53-5607-4B7F-A7A1-65E6EE3C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12D28-54A2-4208-B8F1-B47FAB27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6BE86-C36B-447E-A655-8B5841B6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FAB9-E942-44D4-946D-3C8816E2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E9B17-D993-46E0-876D-232959B4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CDD8B-235A-41E6-8073-E00B4E80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61C-9360-4371-838A-FB699521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17AE6-82BB-41BD-A6DB-AD20AAC3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A556-A03A-47DE-A350-F22D0804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F986-85DB-4B0C-ABFF-E1053413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E644F-4B1A-4B82-8B43-8766ACAE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A9DDC-BB01-4A7D-9EBC-ED2C149F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9666D-C904-40F2-AD9D-08DCDF63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00B8-2907-4228-9C7F-0B05EE91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74A6-A4CE-4A3D-BCF0-3EFC9395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61CC0-2DD9-4833-A0B5-69950235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89910-42FD-4ADF-A5D6-525D72F1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C89-9719-4604-A281-237A1615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2073D-E2C5-4388-A572-BBB4DD42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522A9-0244-443A-B07B-FCF5C766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0DB6D-713D-4AEF-9C61-02BB43E6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50CA9-929D-4CCD-B6CD-39F7310B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F1F99-AF99-446E-942D-D5A988FB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878DB-D745-4A11-B10B-BEA030D2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B13A2-6A9D-4A2E-A9CD-F185D498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B838B-0E64-4078-BF88-749BFBE2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D41C5-BCA4-4AB5-AD3B-9E4EDAA3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B0C96-F45B-4DD1-895B-E4F35377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548-5736-4837-B08B-624C242B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2E1A-41CC-49D3-A0C3-1FA0C2F8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33E8D-93DD-43D9-B7C2-DAF8D7BF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D7A0F-AC27-4D7E-8D64-CB79974F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B8CA8-71E4-4A88-AE65-2BD5472D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29647-844E-401E-9265-EB3F146A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C0530-CF08-492B-93E6-5E4A4A65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4D226-0853-4108-AC51-35474961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ECC87-2007-4A02-BD0C-F04020F0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ADC32-AEA1-441B-866F-916C0395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0F628-FF4A-4227-87E4-B84B81E2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A8F-2708-4934-8D73-C8E6F3DF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02584-0BAD-4D5B-907F-5504DF00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89424-5D43-4B0D-A6DC-C934D377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01917-A2A9-4240-ACF8-C1D07816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A550D-0E36-431F-9F25-E10A081A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E44CC-7AD5-49B1-936F-DBD1BFEE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8C31E-FCB6-4828-A57C-03079C2A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9608F-9493-4FEC-AF7C-53496FB5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0720D-7B19-4D47-BE1F-72B6C5FC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62FC6-C821-4644-A4DC-A84B5BBD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A97CF-6FD4-4AE9-9BEA-129A1B29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1CA-A729-49B6-9CE8-64AF7B2B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F5FA0-C3E1-4FB7-8703-C568D328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E7CB7-AC19-4552-BEC5-773D2311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68A76-31B5-4B38-AE31-24EB866D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C011F-8476-44FC-8C73-586AFF5B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48FFA-05D8-4C3B-89D9-22E04732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2AACE-CEE8-42D3-9EFA-0541E973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BA8A6-D1CF-4C58-B3A0-1DDE4C81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6FBED-AF2F-42C2-98D4-A63C5EB5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49441-C641-492D-B4CD-5727BF1C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78DFE-5912-4EF3-B146-6E6CFD3F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7F4-965C-4964-AF79-ED99A96D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69CE0-0701-4900-8290-944C0E47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752C4-7EDC-4C54-98A8-8006BDA2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813FF-F47D-4D3A-AFA1-EEC7E880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5417A-4B90-4205-9114-2DCF2214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BA384-86EA-4195-A224-C11C48C6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698EF-3A7E-456E-ABA0-268B25E1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991BD-4DDA-4F0D-B1F4-F22886EB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3D4F9-FB3D-465E-8078-CDBF1CC4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AFE6C-F203-4D4A-A543-43848381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45D09-A6FA-4C43-A840-F534180C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01E7-FFFA-4298-A926-68D1863D32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49E6-90C6-44E0-98A7-0AF5891104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AF7D-EF67-43C5-892B-835452ED0F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BF9A-155B-41B3-B335-A475911CC5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A173-CE80-4740-8C4E-B115665BEB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44F5-BC5F-4609-99D5-13AC6C945C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51B3-D314-46DF-8554-6DF3105482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A045-B6B7-45D0-A602-812A775380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BDDC-0A31-4C4B-8462-19C8287E52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5F8C-3965-4CEE-9731-3C8FD7E94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8F04-1C9D-4EB5-9ECF-AFDCAAD9AE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8C21-A096-4E72-81B1-FAE16D3F96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1C33-8606-43A7-AE33-6FF64BD365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EEC8-B0A8-4F50-9945-57714940C8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11E9-6946-4573-9BA8-D8088C803B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3317-112D-45B1-BEF4-B574D5D90C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A25F-1256-45CC-A195-6F61E0808E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9C86-19A1-4752-A752-91068D1101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5689-2409-4E27-9181-20DB82F239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36DB-61C9-4E00-B5A4-4A3D8AEB77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E564-8239-495C-AE95-C00375E101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EF8F-4FDB-4CBD-B8FB-B31F0CC3C8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96FC-3AC7-45CF-B3BB-F22BE6626D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4785-822C-4FD9-867A-AE9114BFE7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0D4A-4F0D-4A9A-A49B-60C3F20341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A246-1D28-4545-A7AC-687DAB382C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D106-AF87-4190-BDD9-D280042067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32C5-7D97-4628-8351-FE77FD007D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116F-8D49-4A03-A527-15BD7EADE6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9D06-0F31-4CF9-B66E-3955D8C0D5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07B7-B916-493D-831A-11039A706A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01E9-B3DA-4CB2-9F62-8F96F0F8E4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F181-7310-4E14-8D94-95A4C36C53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9C59-7F02-40FF-8145-5CF40D7EE8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B1A7-04B9-4DA1-8FA5-69CDE67C17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2B99-69C6-4ACD-BE71-4BEEFC37A5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7604-9CE0-4FA2-833E-50AFC80555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12CA-70D9-451E-8D33-C1CB453181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8194-DE38-4496-8271-6FFDF3CA2B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3472-6591-42C5-B7B8-77DA552728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024360" y="3124080"/>
            <a:ext cx="30952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8520" y="1652760"/>
            <a:ext cx="8886960" cy="3552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059280" y="2771640"/>
            <a:ext cx="649080" cy="320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059280" y="3141720"/>
            <a:ext cx="649080" cy="3207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059280" y="3500280"/>
            <a:ext cx="649080" cy="3207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987640" y="3860640"/>
            <a:ext cx="649440" cy="320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160800" y="4653000"/>
            <a:ext cx="360360" cy="258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643280" y="4653000"/>
            <a:ext cx="360360" cy="258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094440" y="4653000"/>
            <a:ext cx="360360" cy="258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577280" y="4653000"/>
            <a:ext cx="51408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152280" y="876240"/>
            <a:ext cx="8839440" cy="5505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2556000" y="3500280"/>
            <a:ext cx="576000" cy="3207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7885080" y="351000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1332000" y="4581360"/>
            <a:ext cx="576000" cy="320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3924360" y="459108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7667640" y="458136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2195640" y="4951440"/>
            <a:ext cx="576000" cy="320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8"/>
          <a:stretch/>
        </p:blipFill>
        <p:spPr>
          <a:xfrm>
            <a:off x="6156360" y="494172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9"/>
          <a:stretch/>
        </p:blipFill>
        <p:spPr>
          <a:xfrm>
            <a:off x="4427640" y="5300640"/>
            <a:ext cx="576000" cy="3207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0"/>
          <a:stretch/>
        </p:blipFill>
        <p:spPr>
          <a:xfrm>
            <a:off x="7380360" y="530064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1"/>
          <a:stretch/>
        </p:blipFill>
        <p:spPr>
          <a:xfrm>
            <a:off x="3193920" y="5670720"/>
            <a:ext cx="576360" cy="320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2"/>
          <a:stretch/>
        </p:blipFill>
        <p:spPr>
          <a:xfrm>
            <a:off x="7956720" y="5680080"/>
            <a:ext cx="576000" cy="320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3"/>
          <a:stretch/>
        </p:blipFill>
        <p:spPr>
          <a:xfrm>
            <a:off x="2968560" y="602136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4"/>
          <a:stretch/>
        </p:blipFill>
        <p:spPr>
          <a:xfrm>
            <a:off x="5705640" y="6021360"/>
            <a:ext cx="5760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8373" descr=""/>
          <p:cNvPicPr/>
          <p:nvPr/>
        </p:nvPicPr>
        <p:blipFill>
          <a:blip r:embed="rId1"/>
          <a:stretch/>
        </p:blipFill>
        <p:spPr>
          <a:xfrm>
            <a:off x="114480" y="1938240"/>
            <a:ext cx="8915400" cy="298152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8374" descr=""/>
          <p:cNvPicPr/>
          <p:nvPr/>
        </p:nvPicPr>
        <p:blipFill>
          <a:blip r:embed="rId2"/>
          <a:stretch/>
        </p:blipFill>
        <p:spPr>
          <a:xfrm>
            <a:off x="6751800" y="3070080"/>
            <a:ext cx="22572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0:56:2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